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22B-2826-4936-800F-4C68E029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3B2-ABEC-43D6-A512-9B42F1C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8D0-B224-4B11-9836-0A8B9E2F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356-7951-4E70-85BD-73415C06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6E2-0758-452C-9A92-B11C690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B03-4D2D-4C68-87C4-AB47F8D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AE0-6C09-4971-AF31-B2B1333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5F2-316C-4E21-ADF1-12E13DA1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B0C-E902-4C42-AF92-E55FB830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5AC-BE9C-426A-AE67-1BFB65F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334-E4D7-4F6B-B672-D484CB1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3ED-8337-4F46-9D19-7FB2118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FF57ADA0-2E34-482A-852C-15B29912E88E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360" y="104713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44Z</dcterms:modified>
  <cp:revision>55</cp:revision>
  <dc:subject/>
  <dc:title>Slide sem título </dc:title>
</cp:coreProperties>
</file>